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6.wmf" ContentType="image/x-wmf"/>
  <Override PartName="/ppt/media/image3.wmf" ContentType="image/x-wmf"/>
  <Override PartName="/ppt/media/image29.wmf" ContentType="image/x-wmf"/>
  <Override PartName="/ppt/media/image11.png" ContentType="image/png"/>
  <Override PartName="/ppt/media/image31.wmf" ContentType="image/x-wmf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2.jpeg" ContentType="image/jpeg"/>
  <Override PartName="/ppt/media/image25.wmf" ContentType="image/x-wmf"/>
  <Override PartName="/ppt/media/image5.png" ContentType="image/png"/>
  <Override PartName="/ppt/media/image4.wmf" ContentType="image/x-wmf"/>
  <Override PartName="/ppt/media/image27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51E9E-3D2C-41D2-898E-F754D558B9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848A1-8286-4527-82FC-E599888355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6DDD9-14E5-4056-A9E7-B7F445A570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5420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960" y="4778280"/>
            <a:ext cx="6216480" cy="45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7640" y="343620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81880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8828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9892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764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8828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9892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-186120"/>
            <a:ext cx="475776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108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1880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0312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9440" y="1639440"/>
            <a:ext cx="4819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cbc3c7"/>
                </a:solidFill>
                <a:latin typeface="Arial"/>
              </a:rPr>
              <a:t>One Laptop per Child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International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obert D. Fade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2200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Rollout Key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, Accessory,  &amp; Distribution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air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Different Solution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wo deployments are a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are ev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strategic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Uruguay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CEIBAL, 1:1 during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hensive saturating competitive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,000 XO’s delivered, more to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government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733920" y="152280"/>
            <a:ext cx="13716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Rwanda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Minister Commi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000 deployed this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purchase being prep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strong, cross-agency Co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886200" y="152280"/>
            <a:ext cx="121932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Nigeria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0 XO’s donated by 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anctioned school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out, school implementation run by a second private sector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3505320" y="228600"/>
            <a:ext cx="15872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Lebanon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stinian Refugee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NGO orchast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s/Rollout: UNR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upport: Norwegian People’s 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3809880" y="152280"/>
            <a:ext cx="132732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Start Early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to Receipt: ~ 120 days (eas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Team in place long before you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Schools, Infrastructure, Saturation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costs,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OLP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re w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do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we do more of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What is OLPC?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77640" y="11426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is a non-profit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d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ll to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ed Open Sourc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OLPC: The laptop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8000" y="1236240"/>
            <a:ext cx="23047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O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months in manufactu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70,000 ship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0,000 by year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15242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OLPC: Tech Speculation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78000" y="1236240"/>
            <a:ext cx="23047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O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0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P X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al-b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rox.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22096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171360" y="357120"/>
            <a:ext cx="51199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Key Partners from Private &amp; Public Sector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36600" y="1062000"/>
            <a:ext cx="1120680" cy="425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4403880" y="1352520"/>
            <a:ext cx="745920" cy="339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1789200" y="1020600"/>
            <a:ext cx="777960" cy="327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4"/>
          <a:stretch/>
        </p:blipFill>
        <p:spPr>
          <a:xfrm>
            <a:off x="2909880" y="1187280"/>
            <a:ext cx="496800" cy="284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5"/>
          <a:stretch/>
        </p:blipFill>
        <p:spPr>
          <a:xfrm>
            <a:off x="3324240" y="1892160"/>
            <a:ext cx="1427040" cy="21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6"/>
          <a:stretch/>
        </p:blipFill>
        <p:spPr>
          <a:xfrm>
            <a:off x="295200" y="2222640"/>
            <a:ext cx="1079640" cy="203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7"/>
          <a:stretch/>
        </p:blipFill>
        <p:spPr>
          <a:xfrm>
            <a:off x="2370240" y="1808280"/>
            <a:ext cx="585720" cy="642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"/>
          <p:cNvPicPr/>
          <p:nvPr/>
        </p:nvPicPr>
        <p:blipFill>
          <a:blip r:embed="rId8"/>
          <a:stretch/>
        </p:blipFill>
        <p:spPr>
          <a:xfrm>
            <a:off x="1623960" y="2554200"/>
            <a:ext cx="684360" cy="704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9"/>
          <a:stretch/>
        </p:blipFill>
        <p:spPr>
          <a:xfrm>
            <a:off x="3822840" y="896760"/>
            <a:ext cx="414360" cy="41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10"/>
          <a:stretch/>
        </p:blipFill>
        <p:spPr>
          <a:xfrm>
            <a:off x="1623960" y="1725480"/>
            <a:ext cx="382680" cy="384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11"/>
          <a:stretch/>
        </p:blipFill>
        <p:spPr>
          <a:xfrm>
            <a:off x="503280" y="1684440"/>
            <a:ext cx="700200" cy="201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"/>
          <p:cNvPicPr/>
          <p:nvPr/>
        </p:nvPicPr>
        <p:blipFill>
          <a:blip r:embed="rId12"/>
          <a:stretch/>
        </p:blipFill>
        <p:spPr>
          <a:xfrm>
            <a:off x="420840" y="280368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3033720" y="2513160"/>
            <a:ext cx="384120" cy="777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"/>
          <p:cNvPicPr/>
          <p:nvPr/>
        </p:nvPicPr>
        <p:blipFill>
          <a:blip r:embed="rId14"/>
          <a:stretch/>
        </p:blipFill>
        <p:spPr>
          <a:xfrm>
            <a:off x="4610160" y="2762280"/>
            <a:ext cx="358560" cy="528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"/>
          <p:cNvPicPr/>
          <p:nvPr/>
        </p:nvPicPr>
        <p:blipFill>
          <a:blip r:embed="rId15"/>
          <a:stretch/>
        </p:blipFill>
        <p:spPr>
          <a:xfrm>
            <a:off x="3697200" y="2471760"/>
            <a:ext cx="71136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Vital Partnership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1371600" cy="911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1905120" y="838080"/>
            <a:ext cx="1295280" cy="860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304920" y="2606760"/>
            <a:ext cx="1371600" cy="822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3429000" y="914400"/>
            <a:ext cx="1371600" cy="690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5"/>
          <a:stretch/>
        </p:blipFill>
        <p:spPr>
          <a:xfrm>
            <a:off x="3505320" y="1828800"/>
            <a:ext cx="1143000" cy="758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6"/>
          <a:stretch/>
        </p:blipFill>
        <p:spPr>
          <a:xfrm>
            <a:off x="1828800" y="1860480"/>
            <a:ext cx="1447920" cy="730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7"/>
          <a:stretch/>
        </p:blipFill>
        <p:spPr>
          <a:xfrm>
            <a:off x="457200" y="1828800"/>
            <a:ext cx="1066680" cy="533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8"/>
          <a:stretch/>
        </p:blipFill>
        <p:spPr>
          <a:xfrm>
            <a:off x="1828800" y="2708280"/>
            <a:ext cx="1403280" cy="797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9"/>
          <a:stretch/>
        </p:blipFill>
        <p:spPr>
          <a:xfrm>
            <a:off x="3429000" y="2670120"/>
            <a:ext cx="137160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Global Number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2203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OLPC Project Rollout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XOs is eas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ing them is 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can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is owned lo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dcterms:modified xsi:type="dcterms:W3CDTF">2008-09-18T17:57:40Z</dcterms:modified>
  <cp:revision>95</cp:revision>
  <dc:subject/>
  <dc:title>One Laptop per Child</dc:title>
</cp:coreProperties>
</file>